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CCE-D4AB-4132-838B-1F3881EE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B1B4-6120-461D-B7B8-5AEB293E8A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D72A-6181-4A62-ACA4-D291E61B25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938D-8A95-4028-9F6D-C571E10D97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9D66-1312-4743-B66A-0EB8940D1F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F8AB-7ED2-40AB-8455-6A8BA5B687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4577-A133-478F-A0B9-2936F60C07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8B2B-1FDC-48D2-9248-F1D0F0D9AE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DB92-F786-4FF1-8135-1FBB6E72B7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6A6B-1E05-4AF9-A01D-CF5433575D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E17B-3B28-4831-BFAA-537E57489F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51B4-4306-426E-AB78-9FCD11C19E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43BD-EA19-4C98-9F18-DF20776563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3B76-365E-49F4-A132-4FCF1105D6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3E75-D795-4395-BE77-CF03580103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9F18-BD03-4E81-AC6E-A7CA697C67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A5E1-3254-4DA4-935E-B44722F3E4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8F69-BFF5-4F4E-926B-13B208C486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C4D5-B8CF-4127-9A35-662C3B6BA1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09D2-6B5F-494F-827B-3623ED46A2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1E33-E926-4CF9-954D-1723381556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ED12-444D-4C2E-A2F8-D6C720CF12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5002-B9E2-442D-9742-C17AEA7CD6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7CF4-8F31-46A9-A285-B45EA42AB1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9781-A60F-4CFC-B252-140B07BEA7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7F0F-97C6-42C0-B02F-F43F23F4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76A-B7BB-471C-A364-74567A3D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E7F6-370E-437A-A89C-CD791D15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0827-E364-4878-9954-781616A5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60CB-AF65-44DE-854A-AAC60590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1B57-67BA-4E17-AC8C-114CC545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91CE-5221-4229-A8D3-0963791F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99CD-1344-435E-B915-072345D5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2584-6A93-4833-B6DC-0EBEE182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FB70-B046-4518-B9F3-A472B517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68E2-E6A2-4A74-9526-8AEBEB84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7C0-3AAD-4010-B746-B17510FE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4B5A-59AB-47CB-9C79-402A8182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A9944-54D8-4192-8189-3EEDF812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C575-45A7-4C03-9802-A2C22250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80A2-527A-42DB-AA84-B6F4298C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A820-29D9-4921-8B63-23924D59D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146C-2B38-4345-93C1-9C77D8FF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6B37-70CF-4101-8989-CA7261B6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B76-CEA2-4BF7-A55A-60A8074A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DDC-417B-4C63-814B-7C0724E4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A8A-1C32-49C7-8BE4-D984814A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7F43-D9F8-484F-9753-943BEDCC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9374-D0E7-461E-8D23-FEDB91D4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3430-96B7-4206-81AE-E92C275A0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feat2"/>
          <p:cNvPicPr/>
          <p:nvPr/>
        </p:nvPicPr>
        <p:blipFill>
          <a:blip r:embed="rId3"/>
          <a:stretch/>
        </p:blipFill>
        <p:spPr>
          <a:xfrm>
            <a:off x="762120" y="609480"/>
            <a:ext cx="7772400" cy="5791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48F5-E81D-4DD1-B5C3-292BA3424C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Pollution </a:t>
            </a:r>
            <a:br>
              <a:rPr sz="4400"/>
            </a:b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hapter 24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 visual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s pl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so hot for animals/people ei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grade soils and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ergistic effect of many pollu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+ 1 = way more than 2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lfates + nitrates do more damage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0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itrogen oxide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(NO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burning biomass including fossil fu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ides of Nitrogen Chemi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e as acid rain pl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ssive N levels in 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oz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trogen dioxide is an irri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320" y="228240"/>
            <a:ext cx="80802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ydrocarb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80% are from natural sour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est from fossil fuels, cars…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ly generated from incomplete combustion of fuels or combustion by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Carcinogenic and highly tox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Cs (Volatile Organic Compo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ze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Bs  (Polychlorinated Biphenal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457200"/>
            <a:ext cx="9144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arbon mon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 high toxic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% from natural sources: ie volcano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sources = fuel and biomass bur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combustion of fu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t about a month, then oxidizes into carbon diox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alytic converters on cars reduce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8080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sb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aturally occurring min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ined and used in many building materials in the pa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rimary source was leaded gasolin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also from mining, smelting, indust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econdary Polluta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914040"/>
            <a:ext cx="8461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hotochemical oxida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z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internal combustion engines:  c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power plan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nds to be worse in summer (high sunlight) and in ‘still’ air loaded with hydrocarbons and NOs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a while to form, so can build u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wnwi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pollution cen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ertime Smog” can last day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937040" y="5904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Photochemical Pollution</a:t>
            </a:r>
            <a:br>
              <a:rPr sz="4000"/>
            </a:b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(Ozone Production Chemistry)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hy ozone can be worse in rural areas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alth effects of ozo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eparable lung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ss of lung capa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gravates asthma and chronic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nergistic effect : ozone and smo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resses immun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re they all man caused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ck No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some natural sour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ually, natural emissions are greater than human one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With the exception of sulfur and nitrogen oxi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 pollutants are more concentrated in urban 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ir Quality Index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Q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lls how clean or polluted an area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door air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d for 5 major pollut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, SO2, NO2, PM, O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ge = 0 to 500  (100 = national standard for acceptable air qualit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ove 100 = b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-228600"/>
            <a:ext cx="8510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Meteorological Influenc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9144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make magnify air pollution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rsion lay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INVERSION"/>
          <p:cNvPicPr/>
          <p:nvPr/>
        </p:nvPicPr>
        <p:blipFill>
          <a:blip r:embed="rId1"/>
          <a:stretch/>
        </p:blipFill>
        <p:spPr>
          <a:xfrm>
            <a:off x="0" y="2209680"/>
            <a:ext cx="9144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L.A. Smog (photochemical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838080"/>
            <a:ext cx="8540640" cy="52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n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ed to car use: cars releas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x, CO, VOCs (ie: hydrocarbons), particu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ning, traffic = NO released, oxidizes to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 atm.   Reacts with VOCs and sunlight to produce ozone. Ozone oxidizes NO to make more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…process is cyc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London Sm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y, industrial smo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ed by burning co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lfur dioxides combine with atm. particu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cid Rai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downwind of areas with S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N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missions (ie:  coal burn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 scale is logarithm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lutants react in atm to form sulfuric and nitric  ac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osited as rain, fog, snow or dry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fects plants and aquatic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ges buildings and stat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ost Clean Air Act 1970 / 1990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rge particula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settling chambers and cover exposed sites (fugitive sources), scrubbers, air filters, electrostatic precipit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, NOx, Hydrocarbon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Autos:  catalytic convert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cid ra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use low sulfur coal or clean it by washing (expensive) or scrubbing.  Also conserve energy and/or use alternative energy 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 are some human sources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re stationa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 point sour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gitive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area 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are mob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7616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ozone-pollution-mobile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rimary Pollutan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articula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mall mixed particles in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trafine = smaller than .1 micron (virus size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7" descr="partic1"/>
          <p:cNvPicPr/>
          <p:nvPr/>
        </p:nvPicPr>
        <p:blipFill>
          <a:blip r:embed="rId1"/>
          <a:stretch/>
        </p:blipFill>
        <p:spPr>
          <a:xfrm>
            <a:off x="4952880" y="2286000"/>
            <a:ext cx="3810240" cy="3962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2"/>
          <p:cNvSpPr/>
          <p:nvPr/>
        </p:nvSpPr>
        <p:spPr>
          <a:xfrm>
            <a:off x="5638680" y="137160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uman hair is about 100 mic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3963600"/>
            <a:ext cx="41940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P88-3e(1)"/>
          <p:cNvPicPr/>
          <p:nvPr/>
        </p:nvPicPr>
        <p:blipFill>
          <a:blip r:embed="rId1"/>
          <a:stretch/>
        </p:blipFill>
        <p:spPr>
          <a:xfrm>
            <a:off x="3124080" y="1371600"/>
            <a:ext cx="5715000" cy="5429160"/>
          </a:xfrm>
          <a:prstGeom prst="rect">
            <a:avLst/>
          </a:prstGeom>
          <a:ln w="9360">
            <a:solidFill>
              <a:srgbClr val="ee941c"/>
            </a:solidFill>
            <a:miter/>
          </a:ln>
        </p:spPr>
      </p:pic>
      <p:sp>
        <p:nvSpPr>
          <p:cNvPr id="111" name="Text Box 6"/>
          <p:cNvSpPr/>
          <p:nvPr/>
        </p:nvSpPr>
        <p:spPr>
          <a:xfrm>
            <a:off x="762120" y="762120"/>
            <a:ext cx="182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particles impac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514600" y="1676520"/>
            <a:ext cx="3276720" cy="1295280"/>
          </a:xfrm>
          <a:prstGeom prst="line">
            <a:avLst/>
          </a:prstGeom>
          <a:ln w="28440">
            <a:solidFill>
              <a:srgbClr val="0000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914400" y="3124080"/>
            <a:ext cx="20574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ller particles impact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iratory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666880" y="3581280"/>
            <a:ext cx="3124440" cy="1905120"/>
          </a:xfrm>
          <a:prstGeom prst="line">
            <a:avLst/>
          </a:prstGeom>
          <a:ln w="28440">
            <a:solidFill>
              <a:srgbClr val="0000a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457200" y="380880"/>
            <a:ext cx="708660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ulfur Ox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om fossil fuel burn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5" descr="so2trend"/>
          <p:cNvPicPr/>
          <p:nvPr/>
        </p:nvPicPr>
        <p:blipFill>
          <a:blip r:embed="rId1"/>
          <a:stretch/>
        </p:blipFill>
        <p:spPr>
          <a:xfrm>
            <a:off x="2286000" y="3429000"/>
            <a:ext cx="640080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cid Rain Chemistr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ff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ification of water in lakes and so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iratory irr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osion of limestone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to plant foli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u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00:10:32Z</dcterms:created>
  <dc:creator>tosborne</dc:creator>
  <dc:description/>
  <dc:language>en-US</dc:language>
  <cp:lastModifiedBy>Teri Osborne</cp:lastModifiedBy>
  <dcterms:modified xsi:type="dcterms:W3CDTF">2011-03-21T00:28:17Z</dcterms:modified>
  <cp:revision>44</cp:revision>
  <dc:subject/>
  <dc:title>Slide 1</dc:title>
</cp:coreProperties>
</file>